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F15-0D78-41E0-A716-57B9E7DF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94A-79D2-46D5-972B-13E5C8D2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1CC-DA15-4E34-A9D9-92993175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E60-C87D-4F61-8781-330F9951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02B-406A-48E7-B19C-C68107A1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CB0-5C39-42C2-A4D7-51B35103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62B-6A87-4375-82DB-0F0829D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1DE-98C7-4749-AD50-56CD1F6C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423-3117-4E35-A674-BDC6DC4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50B-CCD4-4C08-9539-5EC107FA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6A6-E4EF-4FBA-AD2A-C2D14D0A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EE9-9CE7-45FD-BDD6-B9492CF8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A9A8-D6AC-4169-82A9-5BB78C3C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arm3.static.flickr.com/2223/2308602472_014fec9bef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affiliates.allposters.com/link/redirect.asp?item=3047533&amp;AID=876327&amp;PSTID=1&amp;LTID=2&amp;lang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Broadway"/>
              </a:rPr>
              <a:t>Burrrrrr… The Climate of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Alison Della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Aaron 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Broadway"/>
              </a:rPr>
              <a:t>Overall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  </a:t>
            </a: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The overall climate of Russia is cold… very cold. The land of Russia is covered in snow,ice,and a layer of frost called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Broadway"/>
              </a:rPr>
              <a:t>permafrost </a:t>
            </a:r>
            <a:r>
              <a:rPr b="0" lang="en-US" sz="3200" spc="-1" strike="noStrike">
                <a:solidFill>
                  <a:srgbClr val="66ccff"/>
                </a:solidFill>
                <a:latin typeface="Broadway"/>
              </a:rPr>
              <a:t>in the tundra climate. Russia is covered in snow for 40-240+ days a year. Though the winter is cold and snowy, the summers are warm and rainy. The climate in Russia is like paradise… not. *cue laugh (hahaha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Broadway"/>
              </a:rPr>
              <a:t>Tundra Climate</a:t>
            </a: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      </a:t>
            </a:r>
            <a:r>
              <a:rPr b="0" lang="en-US" sz="3600" spc="-1" strike="noStrike">
                <a:solidFill>
                  <a:srgbClr val="66ccff"/>
                </a:solidFill>
                <a:latin typeface="Broadway"/>
              </a:rPr>
              <a:t>The definition of a tundra climate is a place where trees and growth (plants, animals, etc.) is prevented. Since a tundra climate consists of a cold temperature and little life , Russia is misfortunate to have this a part of their country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t. Basil's Christian Cathedral in Winter Snow, Moscow, Russ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Rain in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Summ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3:52Z</dcterms:created>
  <dc:creator> </dc:creator>
  <dc:description/>
  <dc:language>en-US</dc:language>
  <cp:lastModifiedBy> </cp:lastModifiedBy>
  <dcterms:modified xsi:type="dcterms:W3CDTF">2010-12-17T14:40:40Z</dcterms:modified>
  <cp:revision>3</cp:revision>
  <dc:subject/>
  <dc:title>Burrrrrr… The Climate of Russia</dc:title>
</cp:coreProperties>
</file>